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C7316-D087-4F8B-80EC-60252C763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43D55-12C7-48FD-9E22-B6801875D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DC182-C376-4832-BA01-F51B10F99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C91E7-E47D-4ECB-8786-41AD2B211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B2EBD-025F-4102-87B4-994F81D80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A2D0F-3999-4095-A835-A96B1E123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F44AA-55C3-440B-8C76-880FE2200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A2582-1B1C-483B-A96F-1B39DFF96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2409B-F8A2-41DB-AE38-F68379E34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BCDF8-8D2D-4365-BE66-15140F4F9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0D219-5D25-41E7-BFCA-D522246BC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E23BC-87B0-4F6A-90C8-A524A391B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81181-B76C-4F1E-9C76-8D45D453735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21T00:59:46Z</dcterms:created>
  <dc:creator>Administrator</dc:creator>
  <dc:description/>
  <dc:language>en-US</dc:language>
  <cp:lastModifiedBy>Administrator</cp:lastModifiedBy>
  <dcterms:modified xsi:type="dcterms:W3CDTF">2015-04-21T01:00:09Z</dcterms:modified>
  <cp:revision>1</cp:revision>
  <dc:subject/>
  <dc:title/>
</cp:coreProperties>
</file>